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F79-D672-4F12-943C-8B5BE943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104-7963-4B93-BA8E-EA32BF3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A9D-4B31-4346-8CFC-A515485E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326-67F6-40EF-9194-BCE33E5D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A9B-5417-4D2C-B712-72527C2E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F3B-3502-46A5-AC3D-3D41A16D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EC3-EFD5-4787-9806-48F2A2A2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CA2-9935-403D-AC4A-B09D6524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57A-4E15-4013-A6AA-05E76787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31D-9344-4081-A48B-67131810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168-4A62-4A45-8699-885B088E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D92-C7CE-4830-97CD-60905D6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AF02-3F44-4788-AEF7-AE8AF6D9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c/Eastern_Grey_Squirrel_in_St_James%27s_Park%2C_London_-_Nov_2006_edit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upload.wikimedia.org/wikipedia/en/c/c2/White-tail_deer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en.wikipedia.org/wiki/File:Accipiter_striatusDO1908P02CA.JPG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8/Pinus_pinaster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upload.wikimedia.org/wikipedia/commons/f/f4/Cougar_sitting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upload.wikimedia.org/wikipedia/commons/f/f5/Bobcat_stare.jp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upload.wikimedia.org/wikipedia/commons/f/f5/Bobcat_stare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4/Northern_Spotted_Owl.USFWS-thumb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upload.wikimedia.org/wikipedia/commons/e/ee/Sa-fern.jpg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upload.wikimedia.org/wikipedia/commons/1/1b/Melanerpes_striatus001.jpg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ulmer_Falls_Closeup_3000px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" y="228600"/>
            <a:ext cx="31435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3152880" cy="434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5320" y="152280"/>
            <a:ext cx="3297240" cy="419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90920" y="5181480"/>
            <a:ext cx="3367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7480" y="0"/>
            <a:ext cx="318924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7760" y="4800600"/>
            <a:ext cx="319896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335268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448080" y="472428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338760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22600" y="0"/>
            <a:ext cx="333540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Eastern Grey Squirrel in St James's Park, London - Nov 2006 ed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152280"/>
            <a:ext cx="3289320" cy="426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03040" y="4648320"/>
            <a:ext cx="299736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White-tail de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62200" y="4724280"/>
            <a:ext cx="314352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Sharp-shinned Hawk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97280" y="228600"/>
            <a:ext cx="2527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Pinus pinas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320"/>
            <a:ext cx="296064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327672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Cougar sitt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4724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Bobcat sta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152280"/>
            <a:ext cx="3200400" cy="434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File:Bobcat star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57600" y="3049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File:Northern Spotted Owl.USFWS-thum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4440" y="0"/>
            <a:ext cx="2955960" cy="449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2874960" cy="434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File:Sa-fer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660920"/>
            <a:ext cx="3443400" cy="448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File:Melanerpes striatus00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457200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File:IMG 2409-1.JPG"/>
          <p:cNvPicPr/>
          <p:nvPr/>
        </p:nvPicPr>
        <p:blipFill>
          <a:blip r:embed="rId3"/>
          <a:stretch/>
        </p:blipFill>
        <p:spPr>
          <a:xfrm>
            <a:off x="0" y="47242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505320" y="76320"/>
            <a:ext cx="3203280" cy="426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3244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00:03:19Z</dcterms:modified>
  <cp:revision>9</cp:revision>
  <dc:subject/>
  <dc:title>Slide 1</dc:title>
</cp:coreProperties>
</file>